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863-0A4A-47BE-9FF0-0EAC5EC1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D94-20CD-412C-9319-11428E52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8F6F6-3A26-4E30-9579-2BFA6577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E1E9D-D308-4ACA-B57D-B97AA065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9EDF6-3DD2-4E27-A62E-319177A9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64682-5653-41F6-81CD-F9C80824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63C57-51F0-4551-B589-35872821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B8F87-511F-48DD-A37D-FB93108C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F9AA0-9F8E-4B9F-8E3F-52B58A65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985F7-5E5E-46CE-9BD6-37567B1F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73E9D-B186-450F-8791-D3B4C643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DCEDB-A94B-484F-9F4D-CAD7A8ED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D77-2B1F-42ED-ABD7-D368C795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74676-A711-4E2F-A899-F92685B1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00648-3EA3-42DA-963E-0CA11FA2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3422D-F842-4459-A122-21E1A5C9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32B3F-4203-4C44-9370-95C20A78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9C843-1420-4400-8B41-51B72F91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7514D-DA80-4701-B23E-0AE53F66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0A8ED-7EEC-4C7E-8622-A2CBA251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26148-F4D4-437C-BBD9-A3579914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11121-9B0E-48C2-A57D-4013EA5B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C1483-DA5E-477A-A46A-A53FD255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7D3-E860-4690-BE83-25F3F53D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9BF18-4014-4984-9227-79B28FE4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529D7-AC06-42D3-91B0-4C7355C9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3E462-616C-4FFB-BB17-7765A6D7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3380B-0883-4AA1-A604-9E3D0AAE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6DB2D-55D1-4CE5-BC74-8E11CCBC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7EE90-4CDD-4D07-B97F-32FF3E27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F2FD5-F18E-483B-A67D-8EBD218B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4F5F4-9D4E-4A0E-AA4F-76C84FB0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0DD4F-E6A0-4F9A-A77B-E98F91AA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37DBE-835D-4097-9A36-CECAE794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2348-B025-4F4E-AF43-73A8118A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4ADC5-D4A1-4F73-A465-A8C16A94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664C2-7FE5-430D-A0B2-D1B31CAA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15ACB-DDF6-4DD9-ACC6-224768D3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59EDF-1211-4751-B614-E514EAED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49B63-E411-463D-AC3D-8E809ED3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2746E-1B1E-4D27-903C-1806587A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3FAF8-D27F-4358-8515-35E41338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6E2CF-E1A7-4676-8AFB-8AAD8CC8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5FEBB-8903-4295-823D-8BC2ECB8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0E831-7A26-4ED9-8BED-751DFF2F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A1C7-59AA-49EA-B1FE-7A83727D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8CC6E-1505-47D8-AA21-34D53819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40D9E-61D3-4C7C-A416-DDE3D12F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42994-E20D-4DD2-9127-6EA49695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003C6-30CF-4E09-A277-7CFB8098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0F6A5-C5B6-4564-BF17-3F8B2FE6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F878-9A71-44EF-AF58-1E6E1EEF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271A-0E84-4AB8-AC63-92822EAC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AAEB-D327-46F3-BF0D-F0CA6240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1B29-EBC2-4B29-BFF8-A2A7057F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6C85-6EFA-46A9-AEC0-B1F7BDA4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0AB-CD63-4039-9CB2-707929ED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45E0-1B2D-4B7B-9A05-1F66748A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5A18-0321-477E-9AB9-24221503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77A0-215C-445D-B715-96BF1059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7FB6-B7FF-492D-85EF-D6EAF3FB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10BC-6FED-4323-A313-94731A2E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0B90-B2E9-4562-BC32-8002AA67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F8DF7-3ED3-482E-A9CD-E8067BD0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CD069-928F-4C93-9772-AA19912E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16719-A3BE-4C29-883B-D4FBF9D1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A9009-BE3C-43B6-982C-A788826C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704-0367-421A-9848-CDC618AF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76302-3BAB-4B35-BC54-B9E2A9F9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CA689-58AC-40A8-AAFE-6D5C2845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CCB2-A931-49EC-80A6-E9087AFC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C4470-C958-433A-9E24-A7B47C3E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038C4-8900-4768-AADE-EA2D9F2A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674ED-85E7-4095-87BD-0188A57E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D52B7-E253-482B-8719-32916B7B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CEB6C-6A6E-4160-A6E7-5A3083C1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5096D-1DFA-4481-A05C-360869EF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85ED0-4243-41FE-9351-1DEFBC1D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6DB-B8CD-46C3-AB12-3A8E4707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3A91A-8E6A-41A8-9256-1BDA3058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72DF2-6F8D-4DCB-8C37-3565FFDD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2BE35-0FBD-41E9-8650-14784349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2FB50-9DE8-4FD3-978B-C6353492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567C6-EAA3-4563-B7C2-DAAF382E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2B340-E888-4370-8F08-A24A6CC4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FFE02-EE78-43F8-BE08-F2DAAC54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096CB-66F1-4E00-A2C0-2E9925CC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0299F-D6B4-42E6-99C5-4A5DA377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9FB3E-B3C9-41F8-8925-822EAB0A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121-0BA4-4D00-B5D9-4A04A2F2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44018-EFF4-4C9E-AB06-A5D27541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7C207-9BEB-49BE-9DD0-C00E1D96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6845C-B224-4CFF-8807-A1A9F92D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79DE8-ABEE-4DB1-BD72-5FEC5A28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6A24C-E983-4F1E-908F-85204180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46C71-1057-48AF-961C-CADD28F3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9B626-D636-4EB0-9648-4FE00A4C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2FB23-9723-4147-ADC5-9F9F4E2D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D494D-398A-456E-8600-618C17E5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E6D4A-4A89-400E-8424-9185465D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1B65-668D-4632-BB8C-4AA34FD5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C6ABD-3B64-4009-9B2C-1AC50DCF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7A28A-416B-44C2-9D95-0100CC28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3B28E-EC33-4026-81F0-9A4743F5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FA48E-F5BF-45A3-935D-DF82BAC4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87E0D-4D66-4D67-8F63-1560C424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5A9EB-D11C-4363-AF94-8A973CBC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A7AB0-1D47-4311-9970-12B8C897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C0FA8-2420-41EF-BF56-8B768FC7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4ECA6-149F-437A-B3E4-7E38E57B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8AD52-2CC7-4B8F-A66B-D2F17935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B71-9EDB-4122-A9C4-40FB12EA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2E448-14A2-48E6-9DDE-8727BCE2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2C298-6C21-49A0-8A85-C310A1B0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4A650-5E68-44B0-8951-4A83BF3F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EDC2D-5BD8-4A13-8C26-8FFED9E3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F503E-5163-467E-978C-5162C2A4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3939C-8D13-4835-B033-8BC2698C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6AEF8-162B-4E02-9E29-2AEAB5B2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2E192-58F9-4A8C-89F4-EEE87751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BCD30-FDAE-415D-8A7A-DD47692D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24D37-19CF-41A6-AE89-E1F4A296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5FA-9E3E-4DB6-8943-CD936F97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D32F3-8A22-4460-B32E-BB090B15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A2E05-2B98-490D-AB26-F12889B2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A2233-7A39-49E5-A316-778C8357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4869A-6480-432A-B503-8A91563D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BF614-08E4-4F4F-9EAB-2E3B17C4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457FA-E4B4-46AF-A90D-66519481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82C00-F897-4342-B9AD-C7A430CD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113EC-C26B-46EF-A18A-C05F74B5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2C1AA-56C0-49CF-BF26-3326CF22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7AA9B-A09A-46F3-AE06-E19EA370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55A-38D9-4F59-AC01-9B955E5B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8406E-93C8-4666-8DB9-D97C83E5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72677-7EA9-4611-A409-B75C11A0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2FFE1-ED50-4250-A6D7-D8605659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924AB-D292-4C21-BAB1-F69A5711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4B6B1-BAB8-46C2-ADEC-C1CCBD58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FC997-4C69-4ABB-872F-40C84719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CA03A-FD90-4EB6-9758-24431E87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6C5A4-6146-44D1-89B2-C3EE145C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C3729-C915-495C-B19E-1693325F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CCA3D-3D2D-4143-8FF7-752943D6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020A-FC91-4E55-AAEA-5BA30AAAF11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6D12-887D-463B-9CBA-38EBDB7BA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2B69-996B-4CD6-B587-2A5C65C73D5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B9C2-3376-485C-A999-EA97D2F48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E9E8-BE4F-4551-B503-63CDA282839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FECF-20A7-49D3-BF1B-3B7B0BC52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9E0A-7240-44A7-83CA-F5E9CF05938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C0FA-41B6-49AA-BE05-F9A5EFDC3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DDEF-4DAC-4327-A7A6-B47CCCCA84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9C09-0211-451B-A320-392BF7BAD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73AA-22B7-46F3-94B7-959D64FA1F6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7175-599A-458E-B429-23189B9AE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0C64-6095-45B4-9EBA-47B48AC7588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6515-08FB-468A-8B5B-7C36C9327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D347-2834-4D44-B4CF-F39323D6B12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5DA9-6FBC-445B-A728-7B093A269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BF84-9F29-4F3F-93F4-65C641F0AAF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A26C-CFED-4547-80E9-68AC04EC4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02C6-5D46-44F5-BA67-A7E2898FEB6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3126-EE10-4BB5-A993-156C94448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96E6-7197-4C8F-A1FB-A3FB1C760F7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F66D-15DB-4051-BDA7-43690EB6D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30EB-61C9-4B69-A3B4-ADEF2441E9C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336E-C1A0-496A-BDC7-96B5CD432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" Target="slide38.xml"/><Relationship Id="rId37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ell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Big Ide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The Nucle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 prokaryotic cell doesn’t have a nucleus, instead it has thi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Nucleoid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ants, animals and fungi have this type of ce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Eukaryotic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acteria have this type of ce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Bacteria always have this many cell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Salmonella bacteria would have this type of cell.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ype of cell is simple and has no nucle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332640" indent="-3326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alamander is a complex organism that lives near water.  It is a multi-cellular organism whose cells perform many processes important for its survival. Scientists would classify a salamander as thi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Eukaryote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is picture depicts this type of cel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5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3365640" cy="2412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ukaryoti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This picture depicts this type of cell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4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3314880" cy="2450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These organisms would have this type of cell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5" descr=""/>
          <p:cNvPicPr/>
          <p:nvPr/>
        </p:nvPicPr>
        <p:blipFill>
          <a:blip r:embed="rId1"/>
          <a:stretch/>
        </p:blipFill>
        <p:spPr>
          <a:xfrm>
            <a:off x="4952880" y="4000680"/>
            <a:ext cx="3187800" cy="2552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This organism would have this type of cell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3035160" cy="267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Eukaryotic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ed blood cells would be classified as this type of ce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4" descr="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Eukaryotic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en two things are alike they are called this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Similar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When two things are different they are called this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Diverse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cientists call how something is shaped thi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cientists call the purpose of something thi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This type of cell is complex and has multiple organelle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cientists use patterns, similarity, and diversity to do thi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assify thing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Prokaryotic cells do not have this.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A nucleu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Scientists call our genetic material this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A nuclear envelope surrounds this organelle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 nucle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Tightly coiled DNA inside a prokaryotic cell is called this.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A nucleoid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Eukaryotic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function of a nuclear envelope is to protect th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Both prokaryotes and eukaryotes have this organell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boso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discover a cell with a cell wall, nucleus, and chloroplasts while looking through a microscope. You classify it as this type of c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Times New Roman"/>
              </a:rPr>
              <a:t>Eukaryotic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2:57:36Z</dcterms:created>
  <dc:creator>Eleanor M. Savko</dc:creator>
  <dc:description/>
  <dc:language>en-US</dc:language>
  <cp:lastModifiedBy>Caroline Roth</cp:lastModifiedBy>
  <dcterms:modified xsi:type="dcterms:W3CDTF">2011-05-24T01:38:54Z</dcterms:modified>
  <cp:revision>56</cp:revision>
  <dc:subject/>
  <dc:title>Blank Jeopardy</dc:title>
</cp:coreProperties>
</file>